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192-54B0-46E1-A6C4-B1A08C20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8AB-FBE4-4751-B8CB-76C79045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769-1095-493C-9719-98FA0C91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4C3-4682-4240-87C3-3BF5F2E4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825-C0F0-413F-8F55-776571D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73C-7478-4FD5-A99F-D26CCB07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F6B-D66D-49A9-B7F2-9C6D866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A32-BA34-4EC6-85BA-86C4C85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239-40FD-432E-BF5C-7707213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D40-C4B7-49BD-AC38-7988805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3EB-6D30-49D1-84FD-13238EA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D77-35CF-4A1A-9FBD-4382DA7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B3EA-7B49-4CE9-A713-14004B0B48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ALA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ALA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D86-C2AB-4E5D-8336-0892FA62D6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D76-CE08-458E-897E-74E8BFE20C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g00000c687777.tmp" descr="C:\Users\phild\AppData\Local\MindMaple\Temp\Img00000c687777.tm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5:03:11Z</dcterms:created>
  <dc:creator>PhilD</dc:creator>
  <dc:description/>
  <dc:language>en-US</dc:language>
  <cp:lastModifiedBy/>
  <dcterms:modified xsi:type="dcterms:W3CDTF">2013-05-01T08:37:40Z</dcterms:modified>
  <cp:revision>3</cp:revision>
  <dc:subject/>
  <dc:title>IALA Documentation</dc:title>
</cp:coreProperties>
</file>